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239-356B-40C9-823C-B6E75FA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B48-B3BB-49F6-A32B-06010551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500-CEB2-4057-A27F-01C6DD39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828-BB2C-4A94-91A5-34B7E5F0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7776-FA0F-48A8-81E0-4627F83D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14B-1A04-4801-A8D6-E7CE2F1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EB27-642B-4AF4-A7C2-A6EC05EE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C5D1-E094-489A-89E0-621F6A62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F18E-8579-443F-BE54-D318F017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4FD-61BE-4FEC-91C8-C35902B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A503-0812-4FFB-8BDF-855F96B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192-9C22-4415-9A9F-47988AE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859A-10FF-4387-A281-8D5130C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AFA-A730-4342-93BB-9B96632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572C-CE0D-4CBB-9CC6-959FC113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83EB-20A0-4E69-B9F1-7371A12D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E24D-81CF-4D03-B4CE-49EEAB6B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D32E-32FB-4ABE-888B-97692DB9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EB0C-1DF6-461F-B4D6-FDC786A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437D-7A28-4EDB-B79C-4375148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266E-240B-4781-AE6B-2EC1B556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40FF-BEFB-4198-B3EE-F504004B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B19-D723-4957-BC23-2419C38E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6EDF8-3117-404B-9702-1E62B249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FC44-66A5-4630-B0ED-28F0E806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B1F0-0856-42A1-8AF9-0F9870B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6E9A-56FB-4F76-A99A-3E97CFE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BAC7-01AE-48E6-9820-76F7F621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C4DC-C2B2-4257-AD30-5BE7D887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4BD3-E356-43C6-A59D-7AFD9C41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8191-99CE-4A80-8187-FCF3FB3D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1898-5220-4ACE-9FE0-2A6301A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3809A-5296-4B77-92DD-29274C0D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6C0-8641-4422-A052-0EC5E465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578C-4FEB-4E3A-81D2-28C4B1AC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E340D-F91D-4320-BE78-9456066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A190-8EEA-4C3D-BD32-0E0518C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A1EE-8168-480D-886C-C985635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6543-0C39-4077-BCCD-84A9C47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F3AE-2674-49EB-8EBA-193481A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D2D8-ACAE-49F1-B059-A199223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4CA7-870A-4BCF-B424-67CD8418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4673-CD02-467A-9C13-CE21D55A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E0B0-A92C-43F4-B595-ABDF2FC1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BC2-7B5E-41FF-8C7F-4BF83F4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D911-094B-4361-BB1A-B5D4626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4C0A7-4EA0-4E07-B66F-473466A1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A0DF6-7F75-4E36-B5A9-67F38823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3E6ED-159E-459A-9A51-1981519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917A-DE09-4F29-A6B0-172CB05D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95E0-CD3C-4B61-8275-41DB2DE7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FE4F2-2BDE-4030-89D1-24C4FD9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F123-5C11-46A6-96B4-31D7A171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0828-8C55-46FA-A044-1182F0D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A3E3-B70E-4DEF-9D80-AB47B637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DDD-D091-43C0-8CDD-882CCA1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EC53-A4BD-4C58-BCAE-D85C48FC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F4C-3EE2-4507-9AD7-4193A90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94F-DC34-46E1-A449-8193AB6D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CC1-B7BE-4040-BAA8-648863E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118-593E-4AD7-8238-73EF320F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D72B-27C4-4E70-80ED-244B783E19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826-DF9F-47D4-BAED-BE81E839FB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2EB-1B58-42E0-920A-32DCFE3BC6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3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3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3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37A-B968-4C5E-AB4F-F0EDD7310D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19280" y="3499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езентация к уроку по теме «Имена существительные собственные и нарицательные»</a:t>
            </a: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втор: Першина Любовь Михайловна, учитель русского языка и литературы МБОУ-ООШ п.Большой Кордон Асиновского района Томской области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Проверь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еб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аня, Державины, Коля, Картошкины, Вязалкина, Газеткин, Пчеловодов, Топоров, Дровосеков, Печников, Землекопов, Столя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флекс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уроке сегодня я научилс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доволен свое работой, потому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недоволен собой, потому что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.92, упр. 48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Comic Sans MS"/>
              </a:rPr>
              <a:t>Спасибо  за  урок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подготовке презентации использовала иллюстративный материал сай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zn.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m.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ubs.ya.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flrus.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now.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мена существительные собственные и нарицат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Цель: научиться различать имена существительные нарицательные и собственны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од  -  Томс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ка   -   Чулы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ра   -   Эльбру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16360" y="2852640"/>
            <a:ext cx="3168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рицате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79640" y="2852640"/>
            <a:ext cx="64944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72360" y="2924280"/>
            <a:ext cx="649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364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08436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0920" y="134136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к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213372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4005360"/>
            <a:ext cx="122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76360" y="530064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8000" y="522936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оф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08720" y="393372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м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64360" y="249228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ьбр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43640" y="1413000"/>
            <a:ext cx="12240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340000" y="220464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547640" y="278100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547640" y="4005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195280" y="4365720"/>
            <a:ext cx="144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795640" y="429228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0766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020000" y="3213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651640" y="2133720"/>
            <a:ext cx="936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сёлок Большой Кордон расположен на берегу озера Тургайско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Самое большое пресноводное озеро в мире – Байка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амятник на командном пункте М.И.Кутузова в Гор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Вечный огонь у могилы Неизвестного солдата у стен Кр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3887640" cy="2911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28576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10240" cy="2952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5040360" cy="29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Лингвистическая зада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дному ученику дали задание выписать из текста имена существительные собственные, а другому – выписать имена существительные, которые являются названиями единичных предметов. Одинаковое или разное задание получили ребята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06:41Z</dcterms:created>
  <dc:creator>ADMIN</dc:creator>
  <dc:description/>
  <dc:language>en-US</dc:language>
  <cp:lastModifiedBy>ADMIN</cp:lastModifiedBy>
  <dcterms:modified xsi:type="dcterms:W3CDTF">2012-03-26T07:16:19Z</dcterms:modified>
  <cp:revision>4</cp:revision>
  <dc:subject/>
  <dc:title>Имена существительные собственные и нарицательные</dc:title>
</cp:coreProperties>
</file>