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FCAF-9FA0-492B-A0D1-3BDE937D5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775800" y="391500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E185-3B35-4827-9E7B-704FE8871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5128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9662-CDDB-49A7-A95F-E99AEBEB7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9912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44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77580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9912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44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2EF6-9796-4898-9A35-DE6186706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390AD-FD55-4064-ABA6-0261546A6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A7C7D-1478-4C1C-B166-DF71C4D76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20502-93B9-4ABF-A2E8-61746274A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084CC-E9F1-4732-A5CE-D7CBC8E05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AB308-F9D5-42F1-B30D-1DC0DBC51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1485720" y="209520"/>
            <a:ext cx="73911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315ED-F585-469F-A91B-D514E9847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AF5A5-5821-4197-8B16-B720559C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DFB5-E7D1-4827-A576-7C780F852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75128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AF66A-F6B3-4A77-ADD8-570242E1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A8224-76D3-49AB-BADA-EFD3BF44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775800" y="391500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62F18-7AAB-47B0-8983-B829B1291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75128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58FC4-203C-4E24-864F-99CD4B45A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39912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44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77580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39912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44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95373-CBFA-47FB-9315-1974D38D3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BF93-5D91-416C-8CB4-BEC4FA43F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00A2-0820-414D-9A7C-97021D29C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6A09-B568-41E8-8B85-B5D278A0F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485720" y="209520"/>
            <a:ext cx="73911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C76A-C0F8-4537-8BD5-1AAC6C5F8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EFDD-241C-4C4C-968F-D262B159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5128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4B99-454C-453B-8D50-31ACAC4E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2000-29D7-4FC1-934A-8645C122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7e4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2960" y="692280"/>
            <a:ext cx="9144360" cy="6165720"/>
            <a:chOff x="-12960" y="692280"/>
            <a:chExt cx="9144360" cy="6165720"/>
          </a:xfrm>
        </p:grpSpPr>
        <p:sp>
          <p:nvSpPr>
            <p:cNvPr id="1" name=""/>
            <p:cNvSpPr/>
            <p:nvPr/>
          </p:nvSpPr>
          <p:spPr>
            <a:xfrm>
              <a:off x="2324160" y="711360"/>
              <a:ext cx="6807240" cy="46767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24160" y="711360"/>
              <a:ext cx="6807240" cy="5510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324160" y="711360"/>
              <a:ext cx="64562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324160" y="711360"/>
              <a:ext cx="54086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324160" y="711360"/>
              <a:ext cx="442440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324160" y="711360"/>
              <a:ext cx="34322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324160" y="711360"/>
              <a:ext cx="25592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324160" y="711360"/>
              <a:ext cx="169056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324160" y="711360"/>
              <a:ext cx="81612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324160" y="711360"/>
              <a:ext cx="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324160" y="711360"/>
              <a:ext cx="6807240" cy="4046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324160" y="711360"/>
              <a:ext cx="6807240" cy="3484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324160" y="711360"/>
              <a:ext cx="6807240" cy="3001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324160" y="711360"/>
              <a:ext cx="6807240" cy="2514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392560" y="733320"/>
              <a:ext cx="6738840" cy="207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324160" y="711360"/>
              <a:ext cx="6807240" cy="1677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324160" y="711360"/>
              <a:ext cx="6807240" cy="1322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324160" y="711360"/>
              <a:ext cx="6807240" cy="973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324160" y="711360"/>
              <a:ext cx="6807240" cy="695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324160" y="711360"/>
              <a:ext cx="6807240" cy="411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324160" y="711360"/>
              <a:ext cx="6807240" cy="206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>
              <a:off x="-12600" y="712800"/>
              <a:ext cx="2340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>
              <a:off x="-12600" y="692280"/>
              <a:ext cx="2340000" cy="3990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>
              <a:off x="-12960" y="733320"/>
              <a:ext cx="2319480" cy="5494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>
              <a:off x="382680" y="735120"/>
              <a:ext cx="1928880" cy="6122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>
              <a:off x="1029960" y="749160"/>
              <a:ext cx="1282680" cy="61088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flipH="1">
              <a:off x="1679400" y="735120"/>
              <a:ext cx="641160" cy="6122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H="1">
              <a:off x="-12600" y="692280"/>
              <a:ext cx="2340000" cy="2976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H="1">
              <a:off x="-12960" y="739800"/>
              <a:ext cx="2297160" cy="2106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H="1">
              <a:off x="-12600" y="712800"/>
              <a:ext cx="2340000" cy="1422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H="1">
              <a:off x="-12600" y="747720"/>
              <a:ext cx="2278080" cy="793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H="1">
              <a:off x="-12600" y="735120"/>
              <a:ext cx="2324160" cy="326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 flipH="1">
              <a:off x="-12600" y="692280"/>
              <a:ext cx="2340000" cy="19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grpSp>
          <p:nvGrpSpPr>
            <p:cNvPr id="34" name=""/>
            <p:cNvGrpSpPr/>
            <p:nvPr/>
          </p:nvGrpSpPr>
          <p:grpSpPr>
            <a:xfrm>
              <a:off x="-12600" y="3274920"/>
              <a:ext cx="9143640" cy="1936440"/>
              <a:chOff x="-12600" y="3274920"/>
              <a:chExt cx="9143640" cy="1936440"/>
            </a:xfrm>
          </p:grpSpPr>
          <p:sp>
            <p:nvSpPr>
              <p:cNvPr id="35" name=""/>
              <p:cNvSpPr/>
              <p:nvPr/>
            </p:nvSpPr>
            <p:spPr>
              <a:xfrm>
                <a:off x="-12600" y="5211360"/>
                <a:ext cx="9143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-12600" y="4496400"/>
                <a:ext cx="9143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-12600" y="3850920"/>
                <a:ext cx="91404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-12600" y="3274920"/>
                <a:ext cx="91404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sp>
          <p:nvSpPr>
            <p:cNvPr id="39" name=""/>
            <p:cNvSpPr/>
            <p:nvPr/>
          </p:nvSpPr>
          <p:spPr>
            <a:xfrm>
              <a:off x="-12600" y="2782800"/>
              <a:ext cx="9144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flipV="1">
              <a:off x="-12600" y="2309400"/>
              <a:ext cx="9144000" cy="1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-12600" y="1876320"/>
              <a:ext cx="9144000" cy="14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-12600" y="1531800"/>
              <a:ext cx="91026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V="1">
              <a:off x="-12600" y="1238400"/>
              <a:ext cx="9144000" cy="17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-12600" y="1049400"/>
              <a:ext cx="9144000" cy="11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>
              <a:off x="-12600" y="885600"/>
              <a:ext cx="9144000" cy="270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000" y="826920"/>
              <a:ext cx="91044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12600" y="765000"/>
              <a:ext cx="9144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 flipH="1">
            <a:off x="-12600" y="712800"/>
            <a:ext cx="234000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-12600" y="712800"/>
            <a:ext cx="2340000" cy="3492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-12600" y="692280"/>
            <a:ext cx="2340000" cy="1965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12600" y="765000"/>
            <a:ext cx="914400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12600" y="0"/>
            <a:ext cx="9156600" cy="1600200"/>
          </a:xfrm>
          <a:custGeom>
            <a:avLst/>
            <a:gdLst/>
            <a:ahLst/>
            <a:rect l="l" t="t" r="r" b="b"/>
            <a:pathLst>
              <a:path w="5768" h="1008">
                <a:moveTo>
                  <a:pt x="0" y="0"/>
                </a:moveTo>
                <a:lnTo>
                  <a:pt x="0" y="688"/>
                </a:lnTo>
                <a:cubicBezTo>
                  <a:pt x="72" y="682"/>
                  <a:pt x="776" y="535"/>
                  <a:pt x="2008" y="492"/>
                </a:cubicBezTo>
                <a:cubicBezTo>
                  <a:pt x="3240" y="449"/>
                  <a:pt x="4792" y="608"/>
                  <a:pt x="5768" y="1008"/>
                </a:cubicBezTo>
                <a:lnTo>
                  <a:pt x="5768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533e"/>
              </a:gs>
              <a:gs pos="100000">
                <a:srgbClr val="36846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12600" y="-12600"/>
            <a:ext cx="9156600" cy="1353960"/>
          </a:xfrm>
          <a:custGeom>
            <a:avLst/>
            <a:gdLst/>
            <a:ahLst/>
            <a:rect l="l" t="t" r="r" b="b"/>
            <a:pathLst>
              <a:path w="5768" h="848">
                <a:moveTo>
                  <a:pt x="0" y="0"/>
                </a:moveTo>
                <a:lnTo>
                  <a:pt x="0" y="767"/>
                </a:lnTo>
                <a:cubicBezTo>
                  <a:pt x="72" y="760"/>
                  <a:pt x="879" y="496"/>
                  <a:pt x="2104" y="448"/>
                </a:cubicBezTo>
                <a:cubicBezTo>
                  <a:pt x="3330" y="401"/>
                  <a:pt x="4792" y="472"/>
                  <a:pt x="5768" y="848"/>
                </a:cubicBezTo>
                <a:lnTo>
                  <a:pt x="5760" y="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68463"/>
              </a:gs>
              <a:gs pos="100000">
                <a:srgbClr val="22533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00120" y="115920"/>
            <a:ext cx="1079280" cy="792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-12600" y="333360"/>
            <a:ext cx="1439640" cy="1203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174680" y="404640"/>
            <a:ext cx="649440" cy="543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2f86b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353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353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1"/>
          </p:nvPr>
        </p:nvSpPr>
        <p:spPr>
          <a:xfrm>
            <a:off x="456840" y="6428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533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5338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2"/>
          </p:nvPr>
        </p:nvSpPr>
        <p:spPr>
          <a:xfrm>
            <a:off x="3124080" y="642888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533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5338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3"/>
          </p:nvPr>
        </p:nvSpPr>
        <p:spPr>
          <a:xfrm>
            <a:off x="6552720" y="6428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533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18787-551B-4123-95B9-1A822867E68E}" type="slidenum">
              <a:rPr b="0" lang="en-US" sz="1400" spc="-1" strike="noStrike">
                <a:solidFill>
                  <a:srgbClr val="33533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7e4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12240" y="692280"/>
            <a:ext cx="9093600" cy="6165720"/>
            <a:chOff x="12240" y="692280"/>
            <a:chExt cx="9093600" cy="6165720"/>
          </a:xfrm>
        </p:grpSpPr>
        <p:sp>
          <p:nvSpPr>
            <p:cNvPr id="99" name=""/>
            <p:cNvSpPr/>
            <p:nvPr/>
          </p:nvSpPr>
          <p:spPr>
            <a:xfrm flipH="1">
              <a:off x="12600" y="711360"/>
              <a:ext cx="6769440" cy="46767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12600" y="711360"/>
              <a:ext cx="6769440" cy="5510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361800" y="711360"/>
              <a:ext cx="64202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1403640" y="711360"/>
              <a:ext cx="537840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2382480" y="711360"/>
              <a:ext cx="439956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3368880" y="711360"/>
              <a:ext cx="341316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4237200" y="711360"/>
              <a:ext cx="25448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5101200" y="711360"/>
              <a:ext cx="16808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5970600" y="711360"/>
              <a:ext cx="8114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782040" y="711360"/>
              <a:ext cx="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12600" y="711360"/>
              <a:ext cx="6769440" cy="4046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12600" y="711360"/>
              <a:ext cx="6769440" cy="3484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2600" y="711360"/>
              <a:ext cx="6769440" cy="3001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12600" y="711360"/>
              <a:ext cx="6769440" cy="2514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12600" y="733320"/>
              <a:ext cx="6701400" cy="207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12600" y="711360"/>
              <a:ext cx="6769440" cy="1677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12600" y="711360"/>
              <a:ext cx="6769440" cy="1322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12600" y="711360"/>
              <a:ext cx="6769440" cy="973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12600" y="711360"/>
              <a:ext cx="6769440" cy="695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12600" y="711360"/>
              <a:ext cx="6769440" cy="411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12600" y="711360"/>
              <a:ext cx="6769440" cy="206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779160" y="712800"/>
              <a:ext cx="232668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779160" y="692280"/>
              <a:ext cx="2326680" cy="3990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799320" y="733320"/>
              <a:ext cx="2306520" cy="5494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794640" y="735120"/>
              <a:ext cx="1918080" cy="6122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793560" y="749160"/>
              <a:ext cx="1275480" cy="61088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785640" y="735120"/>
              <a:ext cx="637560" cy="6122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779160" y="692280"/>
              <a:ext cx="2326680" cy="2976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821640" y="739800"/>
              <a:ext cx="2284200" cy="2106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779160" y="712800"/>
              <a:ext cx="2326680" cy="1422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840360" y="747720"/>
              <a:ext cx="2265120" cy="793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794280" y="735120"/>
              <a:ext cx="2311200" cy="326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779160" y="692280"/>
              <a:ext cx="2326680" cy="19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12600" y="3274920"/>
              <a:ext cx="9092880" cy="1936440"/>
              <a:chOff x="12600" y="3274920"/>
              <a:chExt cx="9092880" cy="1936440"/>
            </a:xfrm>
          </p:grpSpPr>
          <p:sp>
            <p:nvSpPr>
              <p:cNvPr id="133" name=""/>
              <p:cNvSpPr/>
              <p:nvPr/>
            </p:nvSpPr>
            <p:spPr>
              <a:xfrm flipH="1">
                <a:off x="12600" y="5211360"/>
                <a:ext cx="909288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>
                <a:off x="12600" y="4496400"/>
                <a:ext cx="909288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>
                <a:off x="15840" y="3850920"/>
                <a:ext cx="9089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15840" y="3274920"/>
                <a:ext cx="9089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 flipH="1">
              <a:off x="12240" y="2782800"/>
              <a:ext cx="90932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12240" y="2309400"/>
              <a:ext cx="9093240" cy="1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12240" y="1876320"/>
              <a:ext cx="9093240" cy="14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53640" y="1531800"/>
              <a:ext cx="90518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flipV="1">
              <a:off x="12240" y="1238400"/>
              <a:ext cx="9093240" cy="17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12240" y="1049400"/>
              <a:ext cx="9093240" cy="11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flipV="1">
              <a:off x="12240" y="885600"/>
              <a:ext cx="9093240" cy="270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12600" y="826920"/>
              <a:ext cx="90536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12240" y="765000"/>
              <a:ext cx="90932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3533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533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533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5338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533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0022-1ED3-47C8-BD61-4A481BAA8106}" type="slidenum">
              <a:rPr b="0" lang="en-US" sz="1200" spc="-1" strike="noStrike">
                <a:solidFill>
                  <a:srgbClr val="3353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60" y="0"/>
            <a:ext cx="9143640" cy="2158920"/>
            <a:chOff x="360" y="0"/>
            <a:chExt cx="9143640" cy="2158920"/>
          </a:xfrm>
        </p:grpSpPr>
        <p:sp>
          <p:nvSpPr>
            <p:cNvPr id="150" name=""/>
            <p:cNvSpPr/>
            <p:nvPr/>
          </p:nvSpPr>
          <p:spPr>
            <a:xfrm flipH="1">
              <a:off x="360" y="0"/>
              <a:ext cx="9142560" cy="2158920"/>
            </a:xfrm>
            <a:custGeom>
              <a:avLst/>
              <a:gdLst/>
              <a:ahLst/>
              <a:rect l="l" t="t" r="r" b="b"/>
              <a:pathLst>
                <a:path w="5768" h="1360">
                  <a:moveTo>
                    <a:pt x="0" y="0"/>
                  </a:moveTo>
                  <a:lnTo>
                    <a:pt x="0" y="616"/>
                  </a:lnTo>
                  <a:cubicBezTo>
                    <a:pt x="72" y="608"/>
                    <a:pt x="264" y="510"/>
                    <a:pt x="1496" y="460"/>
                  </a:cubicBezTo>
                  <a:cubicBezTo>
                    <a:pt x="2728" y="411"/>
                    <a:pt x="4632" y="672"/>
                    <a:pt x="5768" y="1360"/>
                  </a:cubicBezTo>
                  <a:lnTo>
                    <a:pt x="5768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533e"/>
                </a:gs>
                <a:gs pos="100000">
                  <a:srgbClr val="36846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12240" y="0"/>
              <a:ext cx="9131400" cy="1752480"/>
            </a:xfrm>
            <a:custGeom>
              <a:avLst/>
              <a:gdLst/>
              <a:ahLst/>
              <a:rect l="l" t="t" r="r" b="b"/>
              <a:pathLst>
                <a:path w="5761" h="1104">
                  <a:moveTo>
                    <a:pt x="0" y="0"/>
                  </a:moveTo>
                  <a:lnTo>
                    <a:pt x="0" y="632"/>
                  </a:lnTo>
                  <a:cubicBezTo>
                    <a:pt x="72" y="625"/>
                    <a:pt x="401" y="504"/>
                    <a:pt x="1521" y="448"/>
                  </a:cubicBezTo>
                  <a:cubicBezTo>
                    <a:pt x="2641" y="392"/>
                    <a:pt x="4505" y="504"/>
                    <a:pt x="5761" y="1104"/>
                  </a:cubicBezTo>
                  <a:lnTo>
                    <a:pt x="5760" y="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68463"/>
                </a:gs>
                <a:gs pos="100000">
                  <a:srgbClr val="2253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638680" y="3124080"/>
            <a:ext cx="2448000" cy="20448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7020000" y="4005360"/>
            <a:ext cx="2124000" cy="17748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6227640" y="4869000"/>
            <a:ext cx="1619280" cy="13525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4"/>
          <p:cNvSpPr>
            <a:spLocks noGrp="1"/>
          </p:cNvSpPr>
          <p:nvPr>
            <p:ph type="title"/>
          </p:nvPr>
        </p:nvSpPr>
        <p:spPr>
          <a:xfrm>
            <a:off x="457200" y="4191120"/>
            <a:ext cx="54100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5338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" y="3049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32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unduk.ru/Encycl/HerbFood/T0045.htm" TargetMode="External"/><Relationship Id="rId2" Type="http://schemas.openxmlformats.org/officeDocument/2006/relationships/hyperlink" Target="http://www.sunduk.ru/Encycl/HerbFood/T0038.htm" TargetMode="External"/><Relationship Id="rId3" Type="http://schemas.openxmlformats.org/officeDocument/2006/relationships/hyperlink" Target="http://www.sunduk.ru/Encycl/HerbFood/T0033.htm" TargetMode="External"/><Relationship Id="rId4" Type="http://schemas.openxmlformats.org/officeDocument/2006/relationships/hyperlink" Target="http://www.sunduk.ru/Encycl/HerbFood/T0043.htm" TargetMode="External"/><Relationship Id="rId5" Type="http://schemas.openxmlformats.org/officeDocument/2006/relationships/hyperlink" Target="http://www.sunduk.ru/Encycl/HerbFood/T0025.htm" TargetMode="External"/><Relationship Id="rId6" Type="http://schemas.openxmlformats.org/officeDocument/2006/relationships/hyperlink" Target="http://www.sunduk.ru/Encycl/HerbFood/T0030.htm" TargetMode="External"/><Relationship Id="rId7" Type="http://schemas.openxmlformats.org/officeDocument/2006/relationships/hyperlink" Target="http://www.sunduk.ru/Encycl/HerbFood/T0034.htm" TargetMode="External"/><Relationship Id="rId8" Type="http://schemas.openxmlformats.org/officeDocument/2006/relationships/hyperlink" Target="http://www.sunduk.ru/Encycl/HerbFood/T0026.htm" TargetMode="External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7e4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2057400" y="762120"/>
            <a:ext cx="510552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3268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Витамин 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7e4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838080" y="1295280"/>
            <a:ext cx="8305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Витамин А оказывает влияние на рост человека, улучшает состояние кожи, способствует сопротивлению организма инфекции, обеспечивает рост и развитие эпителиальных клеток, входит в состав зрительного пигмента палочек сетчатки глаза - родопсина и зрительного пигмента колбочек - йодопсина. Эти пигменты регулируют темновую адаптацию глаза. 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 rot="1961400">
            <a:off x="380520" y="396252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733920" y="4527000"/>
            <a:ext cx="5410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5338"/>
                </a:solidFill>
                <a:latin typeface="Arial"/>
              </a:rPr>
              <a:t>наблюдаются конъюнктивиты, характерна сухость роговицы - ксерофтальмия. Отмечается также похудение (вплоть до истощения), у детей - задержка роста. Симптомы избытка витамина А: сонливость, вялость, головная боль, гиперемия лица, тошнота, рвота,                                                  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429000" y="2819520"/>
            <a:ext cx="571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5338"/>
                </a:solidFill>
                <a:latin typeface="Arial"/>
              </a:rPr>
              <a:t>Недостаток витамина A приводит к ухудшению зрения в сумерках ("куриной слепоте"). Проявления гиповитаминоза А: кожа становится сухой и шероховатой на руках и икрах ног, шелушится, ороговение волосяных фолликулов делает ее шершавой. Ногти сухие, тусклые. Часто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7e4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3822840" cy="46483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809880" y="2055600"/>
            <a:ext cx="53341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338"/>
                </a:solidFill>
                <a:latin typeface="Comic Sans MS"/>
              </a:rPr>
              <a:t>Витамин А обнаружен только в продуктах животного происхождения (рыбий жир, жир молока, сливочное масло, сливки, творог, сыр, яичный желток, жир печени и жир других органов - сердца, мозга). Однако в организме человека (в кишечной стенке и печени) витамин А может образовываться из некоторых пигментов, называемых каротинами, которые широко распространены в растительных продуктах. Наибольшей активностью обладает b-каротин (провитамин А) </a:t>
            </a:r>
            <a:endParaRPr b="0" lang="en-US" sz="20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7e4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3196800"/>
            <a:ext cx="8839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Считается, что 1 мг b-каротина по эффективности соответствует 0,17 мг витамина А (ретинол). Много содержится каротина в рябине, абрикосах, шиповнике, черной смородине, облепихе, желтых тыквах, арбузах, в красном перце, </a:t>
            </a:r>
            <a:r>
              <a:rPr b="0" lang="ru-RU" sz="1800" spc="-1" strike="noStrike" u="sng">
                <a:solidFill>
                  <a:srgbClr val="368463"/>
                </a:solidFill>
                <a:uFillTx/>
                <a:latin typeface="Arial"/>
                <a:hlinkClick r:id="rId1"/>
              </a:rPr>
              <a:t>шпинате</a:t>
            </a: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, капусте, ботве </a:t>
            </a:r>
            <a:r>
              <a:rPr b="0" lang="ru-RU" sz="1800" spc="-1" strike="noStrike" u="sng">
                <a:solidFill>
                  <a:srgbClr val="368463"/>
                </a:solidFill>
                <a:uFillTx/>
                <a:latin typeface="Arial"/>
                <a:hlinkClick r:id="rId2"/>
              </a:rPr>
              <a:t>сельдерея</a:t>
            </a: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368463"/>
                </a:solidFill>
                <a:uFillTx/>
                <a:latin typeface="Arial"/>
                <a:hlinkClick r:id="rId3"/>
              </a:rPr>
              <a:t>петрушке</a:t>
            </a: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368463"/>
                </a:solidFill>
                <a:uFillTx/>
                <a:latin typeface="Arial"/>
                <a:hlinkClick r:id="rId4"/>
              </a:rPr>
              <a:t>укропе</a:t>
            </a: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368463"/>
                </a:solidFill>
                <a:uFillTx/>
                <a:latin typeface="Arial"/>
                <a:hlinkClick r:id="rId5"/>
              </a:rPr>
              <a:t>кресс-салате</a:t>
            </a: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368463"/>
                </a:solidFill>
                <a:uFillTx/>
                <a:latin typeface="Arial"/>
                <a:hlinkClick r:id="rId6"/>
              </a:rPr>
              <a:t>моркови</a:t>
            </a: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368463"/>
                </a:solidFill>
                <a:uFillTx/>
                <a:latin typeface="Arial"/>
                <a:hlinkClick r:id="rId7"/>
              </a:rPr>
              <a:t>щавеле</a:t>
            </a: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, зеленом </a:t>
            </a:r>
            <a:r>
              <a:rPr b="0" lang="ru-RU" sz="1800" spc="-1" strike="noStrike" u="sng">
                <a:solidFill>
                  <a:srgbClr val="368463"/>
                </a:solidFill>
                <a:uFillTx/>
                <a:latin typeface="Arial"/>
                <a:hlinkClick r:id="rId8"/>
              </a:rPr>
              <a:t>луке</a:t>
            </a: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, зеленом перце, крапиве, одуванчике, клевере. Отмечают, что количество витаминов изменяется в соответствии с окраской продуктов в красновато-желтый цвет: чем интенсивнее эта окраска, тем больше витамина в продукте. Количество витамина в жирах зависит от состава пищи, которой питается животное. Если пища животного богата витаминами или провитаминами, то жир его содержит высокий процент витамина; так, рыбий жир в 100 раз богаче витамином А, чем сливочное масло, потому что растительный и животный планктон, которым питаются рыбы, очень богат витамином А. 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9"/>
          <a:stretch/>
        </p:blipFill>
        <p:spPr>
          <a:xfrm>
            <a:off x="2514600" y="228600"/>
            <a:ext cx="3429000" cy="3048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7e4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374580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Суточная потребность взрослого человека в витамине А (в пересчете на ретинол) - 1 мг, беременных и кормящих женщин - 1,25-1,5 мг, детей первого года жизни - 0,4 мг. Потребность повышается в период развития и роста, в период беременности, а также при диабете и заболеваниях печени. 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Витамин А в течение короткого времени выдерживает высокие температуры. Чувствителен к окислению кислородом воздуха и к ультрафиолетовым лучам. Лучше сохранять витамин А в темном месте. В пищевых веществах витамин А более стоек, даже при нагревании. 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Витамин А лучше всасывается и усваивается в присутствии жиров. Провитамином А является b-каротин, из которого в организме образуется ретиналь, затем ретинол. Витамин А накапливается в печени. 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201080" cy="2597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7e4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6629400" cy="3513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est</cp:lastModifiedBy>
  <dcterms:modified xsi:type="dcterms:W3CDTF">2009-03-19T12:00:2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