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DCB-B3FE-4B09-8F21-F9E36786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13C-FDCE-42F2-8860-EDF07AAF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0A3-7266-47BA-8C6E-5C58782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F6E-16E4-4A33-97C9-36B22B2C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AD1B-0D5B-4358-902C-0E0A17F0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421B-389D-4A5F-A5B8-BAD5848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242C-6994-4FB5-B820-5DDD0E5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048F-0A38-4AEE-9A37-D398DC07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85D3-0185-4BEF-AB2A-175EB051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0D8-D8A9-4F76-948A-89869F1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EEAD-7A2C-4F25-B19C-953DEE1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C8E-51F1-4A4B-B3E5-C58094F2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5C9F-E2BA-4BD1-8257-B381F64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8C9-6E7E-4C67-A4EC-63ED71C1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F345-918B-4B9E-89E6-43AA96ED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DDE0-F46D-49C8-BD04-FC24E5EA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C497-C873-44C7-A287-929801EE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65E-EC9B-443F-A0E2-3D93029B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9EC-6B46-4646-88F0-2D359BCC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40B-D6EB-43F1-BF7E-B880D701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37E-1936-4344-B0BD-8369F7B8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2AE-9532-4DAF-9766-0D8910FA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DBD-B996-4794-BBD0-F7E7191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0E1-9E06-42C3-B790-7C014F26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33e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33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533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1BE0-0159-460C-83C1-FB207AB35477}" type="slidenum">
              <a:rPr b="0" lang="en-US" sz="14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533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4611-8D22-4506-B094-114FA0A61FD0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50" name="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33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3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338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57400" y="762120"/>
            <a:ext cx="5105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09-03-19T12:00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